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007F-A38C-4DED-B211-0C0EA871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995-56ED-4A1D-B813-851724EA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785-DABD-4C54-A0AC-BEAAE1E2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4E5-3CB6-4520-A33B-2C4B09DF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8A6D-A02A-4AE6-B6CC-E6FF7D82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6E9D-907B-4C4B-827C-6B7F5AB1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A085-E5AD-4850-ACDF-7862386E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EFCC-96BD-4F6E-B9FA-BB96C6FC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077A-D6D8-42D8-B3CE-112425AB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A20C-C354-420E-AE37-B00EDF7F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B8E9-7FD9-4FC7-800D-CC285686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91F-07D0-4F51-AF8D-17326D19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46FC-D0FA-4C1A-90C0-247B9629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6BED-3BB3-4F66-B2E3-13D45626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B664-F738-4DD9-B6A6-AD891D34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67EC-82EE-41E4-B64B-1FB808E0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74B6-8397-4120-918E-F8FE094F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748-08BB-4DD3-B33D-449A2F7E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B91-DD42-4EFA-BAC5-70472F25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23EC-F3AD-495D-94E0-807A3943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FDB-58A5-4E66-A17B-B823173C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AFE-F182-46DB-B3E5-8B999927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FAFC-D574-40B9-B80F-34B6CA2F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51E-990C-4B12-BC3C-965E27EE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8445-55EB-4C4C-99FE-AF8AB81734B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9015-E77D-4801-9F74-4DC58C4BC67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ОЕК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12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рганизация психолого-педагогического сопровождения и интеграция разнообразных видов деятельности по профилактике психоэмоционального напряж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 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«Калейдоскоп настроени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чик и руководитель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педагог-психоло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ДОУ « ДС «Сказка» Волощук Е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Елена Петровна\Downloads\Фото. Лесная поляна +коррекционка\IMG_20191023_100509.jpg"/>
          <p:cNvPicPr/>
          <p:nvPr/>
        </p:nvPicPr>
        <p:blipFill>
          <a:blip r:embed="rId1"/>
          <a:stretch/>
        </p:blipFill>
        <p:spPr>
          <a:xfrm>
            <a:off x="35237880" y="-19050120"/>
            <a:ext cx="4309920" cy="24242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5" descr="C:\Users\Елена Петровна\Downloads\Фото. Лесная поляна +коррекционка\IMG_20191023_100519 (1).jpg"/>
          <p:cNvPicPr/>
          <p:nvPr/>
        </p:nvPicPr>
        <p:blipFill>
          <a:blip r:embed="rId2"/>
          <a:srcRect l="9091" t="0" r="13174" b="0"/>
          <a:stretch/>
        </p:blipFill>
        <p:spPr>
          <a:xfrm>
            <a:off x="5867280" y="380880"/>
            <a:ext cx="2984760" cy="28195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C:\Users\Елена Петровна\Downloads\Фото. Лесная поляна +коррекционка\IMG_20200311_083931.jpg"/>
          <p:cNvPicPr/>
          <p:nvPr/>
        </p:nvPicPr>
        <p:blipFill>
          <a:blip r:embed="rId3"/>
          <a:srcRect l="8181" t="0" r="7820" b="0"/>
          <a:stretch/>
        </p:blipFill>
        <p:spPr>
          <a:xfrm>
            <a:off x="228600" y="3886200"/>
            <a:ext cx="3200400" cy="27813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7" descr="C:\Users\Елена Петровна\Downloads\Фото. Лесная поляна +коррекционка\IMG_20200127_090722.jpg"/>
          <p:cNvPicPr/>
          <p:nvPr/>
        </p:nvPicPr>
        <p:blipFill>
          <a:blip r:embed="rId4"/>
          <a:srcRect l="12775" t="0" r="0" b="0"/>
          <a:stretch/>
        </p:blipFill>
        <p:spPr>
          <a:xfrm>
            <a:off x="304920" y="380880"/>
            <a:ext cx="2881080" cy="25146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8" descr="C:\Users\Елена Петровна\Downloads\Фото. Лесная поляна +коррекционка\IMG_20191114_111908 (1).jpg"/>
          <p:cNvPicPr/>
          <p:nvPr/>
        </p:nvPicPr>
        <p:blipFill>
          <a:blip r:embed="rId5"/>
          <a:srcRect l="4040" t="7056" r="30333" b="3069"/>
          <a:stretch/>
        </p:blipFill>
        <p:spPr>
          <a:xfrm>
            <a:off x="2895480" y="1905120"/>
            <a:ext cx="3133800" cy="3203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9" descr="C:\Users\Елена Петровна\Downloads\Фото. Лесная поляна +коррекционка\IMG_20191122_093057.jpg"/>
          <p:cNvPicPr/>
          <p:nvPr/>
        </p:nvPicPr>
        <p:blipFill>
          <a:blip r:embed="rId6"/>
          <a:srcRect l="0" t="0" r="0" b="7522"/>
          <a:stretch/>
        </p:blipFill>
        <p:spPr>
          <a:xfrm>
            <a:off x="6095880" y="3124080"/>
            <a:ext cx="2819520" cy="347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2" descr="C:\Users\Елена Петровна\Downloads\Фото. Лесная поляна +коррекционка\IMG_20200115_112003.jpg"/>
          <p:cNvPicPr/>
          <p:nvPr/>
        </p:nvPicPr>
        <p:blipFill>
          <a:blip r:embed="rId1"/>
          <a:srcRect l="12526" t="0" r="18430" b="19937"/>
          <a:stretch/>
        </p:blipFill>
        <p:spPr>
          <a:xfrm>
            <a:off x="228600" y="228600"/>
            <a:ext cx="4110120" cy="3562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3" descr="C:\Users\Елена Петровна\Downloads\Фото. Лесная поляна +коррекционка\IMG_20200115_111326 (1).jpg"/>
          <p:cNvPicPr/>
          <p:nvPr/>
        </p:nvPicPr>
        <p:blipFill>
          <a:blip r:embed="rId2"/>
          <a:stretch/>
        </p:blipFill>
        <p:spPr>
          <a:xfrm>
            <a:off x="6095880" y="3200400"/>
            <a:ext cx="2786040" cy="33526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C:\Users\Елена Петровна\Downloads\Фото. Лесная поляна +коррекционка\IMG_20200317_160331.jpg"/>
          <p:cNvPicPr/>
          <p:nvPr/>
        </p:nvPicPr>
        <p:blipFill>
          <a:blip r:embed="rId3"/>
          <a:stretch/>
        </p:blipFill>
        <p:spPr>
          <a:xfrm>
            <a:off x="1371600" y="2971800"/>
            <a:ext cx="4179960" cy="36576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C:\Users\Елена Петровна\Downloads\Фото. Лесная поляна +коррекционка\IMG_20191002_104421_268.JPG"/>
          <p:cNvPicPr/>
          <p:nvPr/>
        </p:nvPicPr>
        <p:blipFill>
          <a:blip r:embed="rId4"/>
          <a:stretch/>
        </p:blipFill>
        <p:spPr>
          <a:xfrm>
            <a:off x="5257800" y="228600"/>
            <a:ext cx="3657600" cy="291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C:\Users\Елена Петровна\Downloads\Фото. Лесная поляна +коррекционка\IMG_20190305_114149.jpg"/>
          <p:cNvPicPr/>
          <p:nvPr/>
        </p:nvPicPr>
        <p:blipFill>
          <a:blip r:embed="rId1"/>
          <a:srcRect l="13230" t="0" r="0" b="0"/>
          <a:stretch/>
        </p:blipFill>
        <p:spPr>
          <a:xfrm>
            <a:off x="1447920" y="3581280"/>
            <a:ext cx="4012920" cy="29624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2" descr="C:\Users\Елена Петровна\Downloads\Фото. Лесная поляна +коррекционка\IMG_20190304_151016.jpg"/>
          <p:cNvPicPr/>
          <p:nvPr/>
        </p:nvPicPr>
        <p:blipFill>
          <a:blip r:embed="rId2"/>
          <a:srcRect l="11395" t="0" r="16547" b="0"/>
          <a:stretch/>
        </p:blipFill>
        <p:spPr>
          <a:xfrm>
            <a:off x="228600" y="228600"/>
            <a:ext cx="4280040" cy="33433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C:\Users\Елена Петровна\Downloads\Фото. Лесная поляна +коррекционка\IMG_20200304_091657.jpg"/>
          <p:cNvPicPr/>
          <p:nvPr/>
        </p:nvPicPr>
        <p:blipFill>
          <a:blip r:embed="rId3"/>
          <a:srcRect l="11165" t="0" r="22000" b="10878"/>
          <a:stretch/>
        </p:blipFill>
        <p:spPr>
          <a:xfrm>
            <a:off x="5791320" y="1066680"/>
            <a:ext cx="2911320" cy="4876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Цель проекта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ние условий для развития эмоционально-волевой сферы и личностного развития старших дошкольников в процессе полготовки детей к шко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Основные задачи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202680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для детей: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рмировать адекватную самооценку и самоконтроль де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вивать умения и навыки детей управлять своими эмоциями и поведени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нижать уровень тревожности и застенчивости, гиперактивности и агрессивности  через участие в работе коррекционных груп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для родителей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учить психологические особенности детей старшего дошкольного возрас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учить и применять методы и приемы коррекции поведения  дет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здавать в семье благоприятные условия для коррекции проблем в поведении детей в соответствии с рекомендациями педагога-психолога и воспитател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ля педагого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являть детей, нуждающихся в психологической поддержке и коррек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вать эмоционально-личностную сферу   (формирование способности управлять эмоциями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работать и внедрить в практику работы дошкольного учреждения разнообразные формы и методы взаимодействия детского сада с семьей по коррекции возникших проблем у де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азать помощь родителям в повышении психолого-педагогической и правовой культу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работать мониторинг эффективности коррекционной работы с воспитанник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ТЧ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аботаны и внедрены в практику работы детского сада новые формы и методы взаимодействия детского сада с семьей и социумом:  экскурсии, совместные мероприятия со школой и др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зилось  количество воспитанников с проблемами в личностном развитии и повед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сился процент участия родителей в мероприятиях  детского сад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овень адаптации детей на начальном этапе обучения в школе достигнет 100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ОДУКТЫ ПРОЕКТ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981080"/>
            <a:ext cx="445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борник «Комплекс игр и игровых упражнений на развитие психоэмоциональной устойчивости педагогов и детей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борник «Игры для подготовки детей к школе.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икл занятий по психогимнастике для застенчивых и тревожных де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грамма коррекционно-развивающих занятий с гиперактивными и агрессивными деть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мплекс  игр и упражнения на развитие коммуникативных способностей дошкольни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DSC04424"/>
          <p:cNvPicPr/>
          <p:nvPr/>
        </p:nvPicPr>
        <p:blipFill>
          <a:blip r:embed="rId1"/>
          <a:stretch/>
        </p:blipFill>
        <p:spPr>
          <a:xfrm>
            <a:off x="4915080" y="2998800"/>
            <a:ext cx="3695400" cy="207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ПРЕДСТАВЛЕНИЕ ИТОГОВОГО МЕРОПРИЯТИЯ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лекательное событие, посвященное Дню защиты детей «Мы вместе!» (1 июн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МОНИТОРИНГ РЕАЛИЗАЦИИ ПРОЕКТА </a:t>
            </a:r>
            <a:br>
              <a:rPr sz="2000"/>
            </a:br>
            <a:r>
              <a:rPr b="0" i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иперактивные  и агрессивные дети</a:t>
            </a:r>
            <a:br>
              <a:rPr sz="11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3520" y="1523880"/>
          <a:ext cx="8229600" cy="4525920"/>
        </p:xfrm>
        <a:graphic>
          <a:graphicData uri="http://schemas.openxmlformats.org/drawingml/2006/table"/>
        </a:graphic>
      </p:graphicFrame>
      <p:sp>
        <p:nvSpPr>
          <p:cNvPr id="125" name="Rectangle 4"/>
          <p:cNvSpPr/>
          <p:nvPr/>
        </p:nvSpPr>
        <p:spPr>
          <a:xfrm flipV="1">
            <a:off x="0" y="1549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2867040" y="1708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09680" y="2286000"/>
          <a:ext cx="4586400" cy="3416400"/>
        </p:xfrm>
        <a:graphic>
          <a:graphicData uri="http://schemas.openxmlformats.org/drawingml/2006/table">
            <a:tbl>
              <a:tblPr/>
              <a:tblGrid>
                <a:gridCol w="1541520"/>
                <a:gridCol w="993960"/>
                <a:gridCol w="419040"/>
                <a:gridCol w="504720"/>
                <a:gridCol w="488880"/>
                <a:gridCol w="63828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детей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ещающих коррекционную групп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020 уч.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х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чел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х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чел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посещают групп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че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че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46"/>
          <p:cNvSpPr/>
          <p:nvPr/>
        </p:nvSpPr>
        <p:spPr>
          <a:xfrm>
            <a:off x="0" y="533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МОНИТОРИНГ РЕАЛИЗАЦИИ ПРОЕКТА</a:t>
            </a:r>
            <a:br>
              <a:rPr sz="2800"/>
            </a:br>
            <a:r>
              <a:rPr b="0" i="1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евожные  и застенчивые дети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520" y="1600200"/>
          <a:ext cx="8229600" cy="4525920"/>
        </p:xfrm>
        <a:graphic>
          <a:graphicData uri="http://schemas.openxmlformats.org/drawingml/2006/table"/>
        </a:graphic>
      </p:graphicFrame>
      <p:sp>
        <p:nvSpPr>
          <p:cNvPr id="131" name="Rectangle 4"/>
          <p:cNvSpPr/>
          <p:nvPr/>
        </p:nvSpPr>
        <p:spPr>
          <a:xfrm>
            <a:off x="0" y="15969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2867040" y="1708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09680" y="2286000"/>
          <a:ext cx="4586400" cy="3416400"/>
        </p:xfrm>
        <a:graphic>
          <a:graphicData uri="http://schemas.openxmlformats.org/drawingml/2006/table">
            <a:tbl>
              <a:tblPr/>
              <a:tblGrid>
                <a:gridCol w="1541520"/>
                <a:gridCol w="993960"/>
                <a:gridCol w="419040"/>
                <a:gridCol w="504720"/>
                <a:gridCol w="488880"/>
                <a:gridCol w="63828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детей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ещающих коррекционную групп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020 уч.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х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чел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х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чел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посещают групп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 че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 че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46"/>
          <p:cNvSpPr/>
          <p:nvPr/>
        </p:nvSpPr>
        <p:spPr>
          <a:xfrm>
            <a:off x="0" y="533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Петровна</cp:lastModifiedBy>
  <dcterms:modified xsi:type="dcterms:W3CDTF">2021-10-27T13:07:5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